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41E202-8069-451E-AA21-E0604D407A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437920" y="-36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02991E-E2D2-4C65-8A62-F0C5F8D725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437920" y="-36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3AB031-101B-4CA0-A52F-9929269EEA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7920" y="-36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72C3A2-9248-4109-8456-B5AA2A412D0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7920" y="-36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53198E-8011-4608-89EE-A0C0BF2F28B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37920" y="-36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BCCDA9-8FBB-4BC2-BDCD-11FA420841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37920" y="-36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D1AE7D-7023-40B0-AEC3-FD2AC41252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7920" y="-36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F046D4-EF17-4F8C-A934-27629263D9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2437920" y="-360"/>
            <a:ext cx="6705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7A572-AEC6-46B2-9591-DCA25A2C34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7920" y="-36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9313A5-F5C2-43FB-BD05-5D72B0C094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437920" y="-36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730DD3-69B7-4D9D-8609-33AD0575F3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437920" y="-36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90DC4C-B583-45F5-96B2-6683FEBEE2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37920" y="-36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0488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0484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6204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19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19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19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402400" y="6454440"/>
            <a:ext cx="284040" cy="26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  <a:ea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55D6B-0B33-46E7-92E0-51CD83E53C22}" type="slidenum">
              <a:rPr b="0" lang="en-US" sz="1200" spc="-1" strike="noStrike">
                <a:solidFill>
                  <a:srgbClr val="000000"/>
                </a:solidFill>
                <a:latin typeface="Verdana"/>
                <a:ea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2514600" y="0"/>
            <a:ext cx="6642000" cy="1219320"/>
          </a:xfrm>
          <a:prstGeom prst="rect">
            <a:avLst/>
          </a:prstGeom>
          <a:gradFill rotWithShape="0">
            <a:gsLst>
              <a:gs pos="0">
                <a:srgbClr val="ffcc00">
                  <a:alpha val="55294"/>
                </a:srgbClr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657520" cy="781200"/>
          </a:xfrm>
          <a:prstGeom prst="rect">
            <a:avLst/>
          </a:prstGeom>
          <a:ln w="0">
            <a:noFill/>
          </a:ln>
        </p:spPr>
      </p:pic>
      <p:sp>
        <p:nvSpPr>
          <p:cNvPr id="41" name=""/>
          <p:cNvSpPr/>
          <p:nvPr/>
        </p:nvSpPr>
        <p:spPr>
          <a:xfrm>
            <a:off x="0" y="1219320"/>
            <a:ext cx="9144000" cy="0"/>
          </a:xfrm>
          <a:prstGeom prst="line">
            <a:avLst/>
          </a:prstGeom>
          <a:ln w="25560">
            <a:solidFill>
              <a:srgbClr val="77777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" name=""/>
          <p:cNvSpPr/>
          <p:nvPr/>
        </p:nvSpPr>
        <p:spPr>
          <a:xfrm>
            <a:off x="152280" y="685800"/>
            <a:ext cx="2298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  <a:ea typeface="Verdana"/>
              </a:rPr>
              <a:t>ENGR330-1 Engineering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  <a:ea typeface="Verdana"/>
              </a:rPr>
              <a:t>Service Projects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803320" y="-360"/>
            <a:ext cx="6251400" cy="1219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roject:  Peltan Perimeter Wall Design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"/>
          <p:cNvSpPr/>
          <p:nvPr/>
        </p:nvSpPr>
        <p:spPr>
          <a:xfrm>
            <a:off x="63360" y="5562720"/>
            <a:ext cx="8597880" cy="1181160"/>
          </a:xfrm>
          <a:prstGeom prst="rect">
            <a:avLst/>
          </a:prstGeom>
          <a:solidFill>
            <a:srgbClr val="00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Lucida Grande"/>
                <a:ea typeface="Lucida Grande"/>
              </a:rPr>
              <a:t>Benefits</a:t>
            </a:r>
            <a:r>
              <a:rPr b="0" lang="en-US" sz="1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:  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HEALTH: improves the safety of both the children and equipment.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SUSTAINABILITY: should need very little maintenance if built properly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COST: $8500+</a:t>
            </a:r>
            <a:r>
              <a:rPr b="0" lang="en-US" sz="1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HAITIAN OWNERSHIP:  complete ownership, and added security of assets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" name=""/>
          <p:cNvSpPr/>
          <p:nvPr/>
        </p:nvSpPr>
        <p:spPr>
          <a:xfrm>
            <a:off x="108000" y="1268280"/>
            <a:ext cx="849636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Lucida Grande"/>
                <a:ea typeface="Lucida Grande"/>
              </a:rPr>
              <a:t>Background</a:t>
            </a:r>
            <a:r>
              <a:rPr b="0" lang="en-US" sz="1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: The Peltan school, for both the safety of the Children and to help prevent theft and vandalism have asked that we design a perimeter wall for them to construct.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" name=""/>
          <p:cNvSpPr/>
          <p:nvPr/>
        </p:nvSpPr>
        <p:spPr>
          <a:xfrm>
            <a:off x="108000" y="1828800"/>
            <a:ext cx="4432320" cy="37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Lucida Grande"/>
                <a:ea typeface="Lucida Grande"/>
              </a:rPr>
              <a:t>Importance: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This project is crucial in the continuing of projects there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Lucida Grande"/>
                <a:ea typeface="Lucida Grande"/>
              </a:rPr>
              <a:t>Objectives: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obtain a materials and cost estimate for a wall to enclose the school grounds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design so that the wall will be stable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design an entrance through the wall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Lucida Grande"/>
                <a:ea typeface="Lucida Grande"/>
              </a:rPr>
              <a:t>Findings/Solutions: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rough cost estimate: $8500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Lucida Grande"/>
                <a:ea typeface="Lucida Grande"/>
              </a:rPr>
              <a:t>Outstanding Problems: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I have not factored in cost for rebar or safety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I need to know what they want for an entrance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" name=""/>
          <p:cNvSpPr/>
          <p:nvPr/>
        </p:nvSpPr>
        <p:spPr>
          <a:xfrm>
            <a:off x="4457880" y="1776240"/>
            <a:ext cx="4419360" cy="36324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B583C2-19D3-4D31-BF01-6E584DC52D08}" type="slidenum">
              <a:t>1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Rich Wells</dc:creator>
  <dc:description/>
  <dc:language>en-US</dc:language>
  <cp:lastModifiedBy/>
  <cp:revision>0</cp:revision>
  <dc:subject/>
  <dc:title>Slide 1</dc:title>
</cp:coreProperties>
</file>